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56D46-171D-4A26-8EED-36431CE8D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687D3-9FB9-477E-8D89-D4A0965AA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95679-2CFB-4C28-A6BB-E38EC928F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D0B98-E74A-4C21-B6DF-806E5E5D8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B1727-F200-46E6-B000-371F9BF98F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98304-92C4-427D-8AF1-AE21D3C53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65478-E956-4378-AAA6-82D5B4811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E9228-A1AF-4B89-9048-8C9DB00BD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BFC5F-DACC-45BE-A0CE-1CE2D3669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5C093-E968-49E8-8C82-07CAD0A6E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A1C9D-A013-4F80-81BD-BFDD0AF79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416C1-ABC9-4AC8-8080-43047012F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24673-12E6-4917-8D97-61D24B2DE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5E0AD-66A6-426F-8858-5915B61EF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C8503-BC93-480E-B47A-BF5CE8CB4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0F8E0B-79BC-4AE2-9041-E8A8DE6E2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C1F58-BBA8-401C-91F9-643854BB5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BCCA4-8D53-4154-91CD-C1C60BF8B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FE270-FC08-403E-9855-9FF7D84CE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157A5-DD29-43C7-A990-7B3FE4258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6AA59-3CDC-4ECD-BB8D-E5EDE5E9B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13A44-351A-4E62-B56E-84F55B80C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32FE4-BAE7-471B-8BF9-539B465AF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3AF8E-C8F3-411A-BEFF-DE9F69EE4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C0FC-C461-40F5-84EF-12A916EDBBB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3D2A-256B-479D-A372-922E8742ED5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Monotype Corsiva"/>
              </a:rPr>
              <a:t>The New Nation Project</a:t>
            </a:r>
            <a:endParaRPr b="0" lang="en-US" sz="7200" spc="-1" strike="noStrike">
              <a:solidFill>
                <a:srgbClr val="ffffff"/>
              </a:solidFill>
              <a:latin typeface="Arial Black"/>
            </a:endParaRPr>
          </a:p>
        </p:txBody>
      </p:sp>
      <p:sp>
        <p:nvSpPr>
          <p:cNvPr id="351" name="PlaceHolder 2"/>
          <p:cNvSpPr>
            <a:spLocks noGrp="1"/>
          </p:cNvSpPr>
          <p:nvPr>
            <p:ph type="subTitle"/>
          </p:nvPr>
        </p:nvSpPr>
        <p:spPr>
          <a:xfrm>
            <a:off x="1371600" y="4343400"/>
            <a:ext cx="64008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y: Adam Ree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Why the Articles of Confederation needed to be replaced</a:t>
            </a:r>
            <a:endParaRPr b="0" lang="en-US" sz="50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Monotype Corsiva"/>
              </a:rPr>
              <a:t>Gave each state only 1 vote.</a:t>
            </a:r>
            <a:endParaRPr b="0" lang="en-US" sz="3600" spc="-1" strike="noStrike">
              <a:solidFill>
                <a:srgbClr val="ffcc00"/>
              </a:solidFill>
              <a:latin typeface="Arial Black"/>
            </a:endParaRPr>
          </a:p>
          <a:p>
            <a:pPr marL="291600" indent="-29160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Monotype Corsiva"/>
              </a:rPr>
              <a:t>Congress had no power to tax. (which you would think is good, but its not because we wouldn’t be able to pay for the government and the military.)</a:t>
            </a:r>
            <a:endParaRPr b="0" lang="en-US" sz="3600" spc="-1" strike="noStrike">
              <a:solidFill>
                <a:srgbClr val="ffcc00"/>
              </a:solidFill>
              <a:latin typeface="Arial Black"/>
            </a:endParaRPr>
          </a:p>
          <a:p>
            <a:pPr marL="291600" indent="-29160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Monotype Corsiva"/>
              </a:rPr>
              <a:t>Provided no executive or judicial branch</a:t>
            </a:r>
            <a:endParaRPr b="0" lang="en-US" sz="3600" spc="-1" strike="noStrike">
              <a:solidFill>
                <a:srgbClr val="ffcc00"/>
              </a:solidFill>
              <a:latin typeface="Arial Black"/>
            </a:endParaRPr>
          </a:p>
          <a:p>
            <a:pPr marL="291600" indent="-29160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Monotype Corsiva"/>
              </a:rPr>
              <a:t>Provided weak national government</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How the Constitution ensured that no branch had too much power</a:t>
            </a:r>
            <a:endParaRPr b="0" lang="en-US" sz="5000" spc="-1" strike="noStrike">
              <a:solidFill>
                <a:srgbClr val="ffffff"/>
              </a:solidFill>
              <a:latin typeface="Arial Black"/>
            </a:endParaRPr>
          </a:p>
        </p:txBody>
      </p:sp>
      <p:sp>
        <p:nvSpPr>
          <p:cNvPr id="355"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Monotype Corsiva"/>
              </a:rPr>
              <a:t>Checks and Balances.</a:t>
            </a:r>
            <a:endParaRPr b="0" lang="en-US" sz="3600" spc="-1" strike="noStrike">
              <a:solidFill>
                <a:srgbClr val="ffcc00"/>
              </a:solidFill>
              <a:latin typeface="Arial Black"/>
            </a:endParaRPr>
          </a:p>
          <a:p>
            <a:pPr marL="343080" indent="-343080" algn="ctr">
              <a:lnSpc>
                <a:spcPct val="100000"/>
              </a:lnSpc>
              <a:spcBef>
                <a:spcPts val="9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Monotype Corsiva"/>
              </a:rPr>
              <a:t>The Federal System</a:t>
            </a:r>
            <a:r>
              <a:rPr b="0" lang="en-US" sz="3600" spc="-1" strike="noStrike">
                <a:solidFill>
                  <a:srgbClr val="ffcc00"/>
                </a:solidFill>
                <a:latin typeface="Monotype Corsiva"/>
              </a:rPr>
              <a:t> took four years to finish and made sure the branches had equal power.</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1905120" y="2476440"/>
            <a:ext cx="6238800" cy="4381560"/>
          </a:xfrm>
          <a:prstGeom prst="rect">
            <a:avLst/>
          </a:prstGeom>
          <a:ln w="0">
            <a:noFill/>
          </a:ln>
        </p:spPr>
      </p:pic>
      <p:sp>
        <p:nvSpPr>
          <p:cNvPr id="3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How the Constitution ensured that no branch had too much power (cont.)</a:t>
            </a:r>
            <a:endParaRPr b="0" lang="en-US" sz="5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right should we abolish? Why would this be necessary?</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1000"/>
          </a:bodyPr>
          <a:p>
            <a:pPr marL="277560" indent="-277560" algn="ctr">
              <a:lnSpc>
                <a:spcPct val="100000"/>
              </a:lnSpc>
              <a:spcBef>
                <a:spcPts val="1349"/>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Monotype Corsiva"/>
              </a:rPr>
              <a:t>The 3</a:t>
            </a:r>
            <a:r>
              <a:rPr b="0" lang="en-US" sz="5400" spc="-1" strike="noStrike" baseline="30000">
                <a:solidFill>
                  <a:srgbClr val="ffcc00"/>
                </a:solidFill>
                <a:latin typeface="Monotype Corsiva"/>
              </a:rPr>
              <a:t>rd</a:t>
            </a:r>
            <a:r>
              <a:rPr b="0" lang="en-US" sz="5400" spc="-1" strike="noStrike">
                <a:solidFill>
                  <a:srgbClr val="ffcc00"/>
                </a:solidFill>
                <a:latin typeface="Monotype Corsiva"/>
              </a:rPr>
              <a:t> amendment, No Soldier shall, in time of peace be quartered in any house, in time of war, but in a manner to be prescribed by law. </a:t>
            </a:r>
            <a:endParaRPr b="0" lang="en-US" sz="5400" spc="-1" strike="noStrike">
              <a:solidFill>
                <a:srgbClr val="ffcc00"/>
              </a:solidFill>
              <a:latin typeface="Arial Black"/>
            </a:endParaRPr>
          </a:p>
          <a:p>
            <a:pPr marL="277560" indent="0" algn="ctr">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What right should we abolish? Why would this be necessary? (cont.)</a:t>
            </a:r>
            <a:endParaRPr b="0" lang="en-US" sz="5000" spc="-1" strike="noStrike">
              <a:solidFill>
                <a:srgbClr val="ffffff"/>
              </a:solidFill>
              <a:latin typeface="Arial Black"/>
            </a:endParaRPr>
          </a:p>
        </p:txBody>
      </p:sp>
      <p:sp>
        <p:nvSpPr>
          <p:cNvPr id="361"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fontScale="93000"/>
          </a:bodyPr>
          <a:p>
            <a:pPr marL="318960" indent="-318960" algn="ctr">
              <a:lnSpc>
                <a:spcPct val="100000"/>
              </a:lnSpc>
              <a:spcBef>
                <a:spcPts val="1001"/>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Monotype Corsiva"/>
              </a:rPr>
              <a:t>I think that the 3rd amendment would have to be abolished because why wouldn’t you want to help a soldier who helps your country? I mean sure, they take up space, but its just not right to turn down an American soldier. </a:t>
            </a:r>
            <a:endParaRPr b="0" lang="en-US" sz="4000" spc="-1" strike="noStrike">
              <a:solidFill>
                <a:srgbClr val="ffcc00"/>
              </a:solidFill>
              <a:latin typeface="Arial Black"/>
            </a:endParaRPr>
          </a:p>
          <a:p>
            <a:pPr marL="31896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18288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Monotype Corsiva"/>
              </a:rPr>
              <a:t>Would you have been a Federalist or a Democratic Republican?  Why?</a:t>
            </a:r>
            <a:endParaRPr b="0" lang="en-US" sz="5000" spc="-1" strike="noStrike">
              <a:solidFill>
                <a:srgbClr val="ffffff"/>
              </a:solidFill>
              <a:latin typeface="Arial Black"/>
            </a:endParaRPr>
          </a:p>
        </p:txBody>
      </p:sp>
      <p:sp>
        <p:nvSpPr>
          <p:cNvPr id="363" name="PlaceHolder 2"/>
          <p:cNvSpPr>
            <a:spLocks noGrp="1"/>
          </p:cNvSpPr>
          <p:nvPr>
            <p:ph/>
          </p:nvPr>
        </p:nvSpPr>
        <p:spPr>
          <a:xfrm>
            <a:off x="685800" y="2742840"/>
            <a:ext cx="7772400" cy="3886200"/>
          </a:xfrm>
          <a:prstGeom prst="rect">
            <a:avLst/>
          </a:prstGeom>
          <a:noFill/>
          <a:ln w="0">
            <a:noFill/>
          </a:ln>
        </p:spPr>
        <p:txBody>
          <a:bodyPr lIns="90000" rIns="90000" tIns="46800" bIns="46800" anchor="t">
            <a:normAutofit fontScale="94000"/>
          </a:bodyPr>
          <a:p>
            <a:pPr marL="322200" indent="-322200" algn="ctr">
              <a:lnSpc>
                <a:spcPct val="100000"/>
              </a:lnSpc>
              <a:spcBef>
                <a:spcPts val="700"/>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Monotype Corsiva"/>
              </a:rPr>
              <a:t>I would choose to support Jefferson and the Democratic Republicans because they think people should be equal which is exactly what I think. If you went with Hamilton, you wouldn’t have much freedom because the government has total control over the people. Jefferson made it so we have freedom and the government doesn't have as much control over us as it would if you went with Hamilton.</a:t>
            </a:r>
            <a:endParaRPr b="0" lang="en-US" sz="2800" spc="-1" strike="noStrike">
              <a:solidFill>
                <a:srgbClr val="ffcc00"/>
              </a:solidFill>
              <a:latin typeface="Arial Black"/>
            </a:endParaRPr>
          </a:p>
          <a:p>
            <a:pPr marL="322200" indent="0" algn="ctr">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How important were the contributions of the First Five Presidents to our nations’ development?</a:t>
            </a:r>
            <a:endParaRPr b="0" lang="en-US" sz="40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3399"/>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Monotype Corsiva"/>
              </a:rPr>
              <a:t>I think the presidents contributions were very important. Why? Because without George Washington’s contribution we would not have a Federal System. Without Thomas Jefferson’s contribution we would not have the state I was born in Virginia. Without Monroe’s contribution we would not have the Monroe Doctrin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00:26:28Z</dcterms:created>
  <dc:creator>Adam Reese</dc:creator>
  <dc:description/>
  <dc:language>en-US</dc:language>
  <cp:lastModifiedBy>Adam Reese</cp:lastModifiedBy>
  <dcterms:modified xsi:type="dcterms:W3CDTF">2008-04-24T01:32:49Z</dcterms:modified>
  <cp:revision>3</cp:revision>
  <dc:subject/>
  <dc:title>The New Nation</dc:title>
</cp:coreProperties>
</file>